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783-0C04-43F2-9D1D-559664C7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BCD2-6A18-4D07-86EE-DB6B6BE5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98A4-4787-4962-81DD-13A5EFC5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4C5-A27C-4DEE-88F1-426B8F2A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DC0-25E7-4BF1-8F0A-80955D69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F91-5DB2-4520-AA5E-5302E137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686F-026E-4DEE-9647-AAE10082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13D-0B57-47A5-B578-E220C843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ABD7-A808-4911-9BAE-85ECF7CB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12D-4089-49A1-8B98-21262353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4BB-B748-4361-92C2-4083AE96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D43-6C4C-4A20-950B-1A918C4C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482148-B855-46B2-875C-B63E55FC1622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6000" spc="-1" strike="noStrike">
                <a:solidFill>
                  <a:srgbClr val="000000"/>
                </a:solidFill>
                <a:latin typeface="Century Schoolbook"/>
              </a:rPr>
              <a:t>Il palloncino dispettos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27.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500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4983120" y="1549440"/>
            <a:ext cx="3657600" cy="2590920"/>
          </a:xfrm>
          <a:prstGeom prst="wedgeRoundRectCallout">
            <a:avLst>
              <a:gd name="adj1" fmla="val -72310"/>
              <a:gd name="adj2" fmla="val -218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urlz MT"/>
              </a:rPr>
              <a:t>Il calore è l’ energia che si trasferisce spontaneamente da un corpo a temperatura più alta a uno a temperatura più bass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3809880" cy="28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urlz MT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Curlz MT"/>
              </a:rPr>
              <a:t>Esper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43400" y="1447920"/>
            <a:ext cx="46483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Curlz MT"/>
              </a:rPr>
              <a:t>Materia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urlz MT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urlz MT"/>
              </a:rPr>
              <a:t>palloncino con acq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urlz MT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urlz MT"/>
              </a:rPr>
              <a:t>palloncino con a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urlz MT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urlz MT"/>
              </a:rPr>
              <a:t>cande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72428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urlz MT"/>
              </a:rPr>
              <a:t>Mettiamo il primo palloncino con aria sopra la cand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21120" y="4927680"/>
            <a:ext cx="5029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urlz MT"/>
              </a:rPr>
              <a:t>Cosa succederà ?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3200400" cy="4647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Curlz MT"/>
              </a:rPr>
              <a:t>…   </a:t>
            </a:r>
            <a:r>
              <a:rPr b="0" lang="it-IT" sz="4800" spc="-1" strike="noStrike">
                <a:solidFill>
                  <a:srgbClr val="000000"/>
                </a:solidFill>
                <a:latin typeface="Curlz MT"/>
              </a:rPr>
              <a:t>SCOPPIA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572000" cy="5791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urlz MT"/>
              </a:rPr>
              <a:t>Adesso mettiamo sopra la candela il secondo palloncino pieno d’acq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5320" y="4647960"/>
            <a:ext cx="3962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Curlz MT"/>
              </a:rPr>
              <a:t>cosa succederà ?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58128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5410080"/>
            <a:ext cx="281952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urlz MT"/>
              </a:rPr>
              <a:t>... niente 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114800" y="152280"/>
            <a:ext cx="464832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urlz MT"/>
              </a:rPr>
              <a:t>Come mai il primo palloncino scoppia e il secondo no ?</a:t>
            </a:r>
            <a:br>
              <a:rPr sz="4400"/>
            </a:b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Curlz MT"/>
              </a:rPr>
              <a:t>Perché l’acqua a differenza dell’aria assorbe il calore della candela e quindi non scoppia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4:43:58Z</dcterms:created>
  <dc:creator>Rasta Luy</dc:creator>
  <dc:description/>
  <dc:language>en-US</dc:language>
  <cp:lastModifiedBy>Laura Polenta</cp:lastModifiedBy>
  <dcterms:modified xsi:type="dcterms:W3CDTF">2011-05-10T21:00:5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